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B39A-9C01-4532-85F5-DFF34AD1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E24-56AC-4407-9030-0C1DCCF8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6D0-ABA5-4486-8919-3A42FBBE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623-B1A8-4628-9B5C-EDA3AC91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493-6C7E-47B2-BD8A-C743C4EA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B5F-5606-4710-A050-136C81E1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6F0-7FE2-4FAB-BADA-5C37D334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679C-081C-42EE-89E4-C2F8CE04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3C8-EC58-4FF6-8416-E6CABA2B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E58-03ED-4285-8DF6-F291543B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217-BA40-4555-AC5E-1E2E7CB4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4E7-A38E-45BF-8A17-8A038B2F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8801-B8B5-44B7-8076-2F3B503A3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360" y="365724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: Rob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. Sca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th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What are first w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How do first waves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How many first w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45720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7:17:27Z</dcterms:created>
  <dc:creator>PA Department of Education</dc:creator>
  <dc:description/>
  <dc:language>en-US</dc:language>
  <cp:lastModifiedBy>PA Department of Education</cp:lastModifiedBy>
  <dcterms:modified xsi:type="dcterms:W3CDTF">2009-05-27T17:25:05Z</dcterms:modified>
  <cp:revision>1</cp:revision>
  <dc:subject/>
  <dc:title>First waves</dc:title>
</cp:coreProperties>
</file>